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5A77-9F50-42B5-AB32-3F2D65BF5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79B3-2504-43C2-B479-3B6D33677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6A34-4930-4A36-8703-096CB4733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5D59-2CD2-4EBE-B4F1-F52911B83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5AC2A-DE1C-48B7-B4A0-C0A449EB9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9EC1E-13F7-4B35-84B2-F316EEC35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2AACE-3DC0-4C68-8FF5-218092552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266BD-4481-42F8-BF22-29B214967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258CC-F2A8-437B-86E4-BC0EBB6B6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C5C4D-8B8F-4F76-AE1D-7DFA4DF75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61020-893C-448E-896E-5D3B254F4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0176-4525-4FC9-AFCC-EE5BA30C8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1F911-1404-47B9-9360-C9CADF86B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6FC55-09BB-4805-AD6C-A665DEE6E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5789F-AC5F-4F7B-829F-AFD1DAC12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D492A-320E-48CE-9B7B-BBB6CF894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FE20E-4954-4804-947C-2D4F1CCCE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D0D7-EC04-4241-86B2-E01FF9C95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47C9-7B1E-4182-9470-FC55B283C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4626-1DAE-4E4C-81B4-9A83F59CA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DB25-6D46-44FB-B819-B87210E07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F9F7-70B6-4AA9-ADED-341411773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0BD0-2B19-4274-89CB-EFB9EF923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1C60-5EE4-43D1-88B1-7334620F1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1A0BC-3EEF-430E-A81C-D6E6ADA46CD8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649E5-6C7D-4562-8809-99C3467FCA72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057400" y="228564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Global Student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n international education opportunity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Open your door to the future…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n international education is important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luency in another language is more important than ever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37920" y="1752480"/>
            <a:ext cx="4876920" cy="6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Get Involved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23880" y="312408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ecome a volunteer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ecome an exchange student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ecome a host family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71240" y="22856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Global Student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ww.GlobalStudents.co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1T18:34:54Z</dcterms:created>
  <dc:creator>Connie Morrison</dc:creator>
  <dc:description/>
  <dc:language>en-US</dc:language>
  <cp:lastModifiedBy>Julie Hotchkiss</cp:lastModifiedBy>
  <dcterms:modified xsi:type="dcterms:W3CDTF">2004-09-24T15:23:01Z</dcterms:modified>
  <cp:revision>16</cp:revision>
  <dc:subject/>
  <dc:title>Participate in the  Global Student Exchange Program</dc:title>
</cp:coreProperties>
</file>